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E6A8-C2FE-4D9C-B620-171EB20675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9C5B-A6C8-433D-9E83-A76055A6CF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– вред или польз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лыгина М.Д., 2 «В»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приготовим насыщенный солевой раствор. Возьмем лист цветной бумаги (я взяла черный), кисть и попробуем что-нибудь нарисовать этим раствором. Оставляем рисунок на ночь в теплом месте. Утром наш рисунок проявит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Вода испарилась, а соль осталась, образовав мельчайшие кристалл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4640-B242-45DA-9C62-6600C3573F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приготовим насыщенный солевой раствор. На карандаш привяжем толстую нить, опустим нить в банку и оставим ее в теплом месте на 3 не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кристаллов соли показано на фот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C041-AD01-47F7-A38A-56F42150B5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ы соли неисчерпаемы. Соль добывают разными способами, в пищу употребляем, в основном, каменную и самосадочную со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используется в промышленности, медицине, в быту. Без соли человеку нельзя, но и пересолить страшно. Чем станет для нас соль – «белым золотом» или «белой смертью» - решать каждому из нас. Но лучше рационально использовать этот удивительный минер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D664-4808-4AF2-A5F4-ED973533D0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89B2-D2D3-4B37-9BFB-20A2229B83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накомство» с солью (история, получение соли, применение сол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свойств соли (проведение опытов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щивание кристаллов поваренной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7848-315D-4749-9E8D-71A8D759B5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ол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рошлом соль эт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 обря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 достатка и благополуч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8281-D9BF-4081-BF17-5C1D8960C7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для организма человека и живот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ая роль в рабо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ервной систем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ищеварительной систем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вижения мышц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спасает организм от обезвожи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Избыточное потребление соли ведет к болезням сердца и сосудов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потребления соли для человек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 граммов в су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ение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быт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права для различных блю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ервант пищевых продуктов (рыба, мясо, овощи, грибы и т.д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медицин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недостатка йода  и фтора в организм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зиологический раство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промышленности и техник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готовление пластмасс, алюминия, бумаги, мыла, стекла, аккумулят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при обработке мехов и ко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гент для борьбы с гололе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91A2-0ED4-4FB1-80A2-56A83BDD5E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менная или твердая – добывается шахтным или карьерным способ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садочная или озерная - добывается на дне солевых оз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дочная – при испарении воды под воздействием солнца, соль оседает на дне бассейн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арочная – получается выпариванием воды из рассо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0864-E028-4064-AA9A-A4BCA42658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йства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ый кристалл не имеющий запаха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банку с водой, опустим туда ложку соли и перемешаем, кристаллы соли исчезнут – растворятся в вод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Соль растворяется в воде.</a:t>
            </a: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5A7D-AD53-49EC-B1C8-AA4DFB9E9C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банку с теплой водой и опустим туда сырое яйцо – оно утонет. Затем в банку добавляем соль до тех пор, пока на дне банки не останутся кристаллы соли, которые не будут растворяться (получим насыщенный солевой раствор). В этот раствор опустим яйцо – оно будет плавать на поверхности во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Соль увеличивает плотность вод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в соленой воде тело не тонет. На территории нашей республики есть озеро Тус, где каждый человек может убедиться в этом свойстве насыщенного солевого раство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EDF8-ABA9-492A-839D-F99BB55764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миску с водой, опустим в нее кусочек льда, положим на него спичку и посыпем вокруг спички немного соли. Через несколько секунд кусочек льда можно будет поднять за спичку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заставила таять лед вокруг спички, потому что </a:t>
            </a: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температура замерзания соленой воды ниже, чем пресно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леный раствор постепенно стекает в миску, и спичка примерзает к кусочку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D526-0B32-4FA6-8804-C146E0F72D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DF1-1D17-46ED-B2A6-E2EDE8B0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05E-892E-4FBD-A02A-A2951A8E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08C-B4A7-47B0-BB9B-9385D478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49F-57DF-495C-AE52-A981003B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E8B5-D170-4CD4-A99F-A3A0695E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1AB1-1097-4878-BB97-EA0DF8AA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0F3D-E04B-486B-B104-35C3CF56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98F1-43B5-478C-BDE7-376B3291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0F3E-9CC9-425D-ABFA-CE41273F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CC5F-6B53-4291-B4CE-2171A174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CCA7-A179-4F7B-BF26-132AC4D9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776-238E-4CB5-9849-78B45EA1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3083-E177-4A1E-8CA5-09C41F04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F8F3-0CDC-44D9-BB40-B771EC5F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5603-24B7-4055-B571-ADA3C9B1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362B-8282-4CA7-B673-ED2A0B51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4417-FEF1-4785-9041-EEB39B65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077-44AD-43BA-BC01-D6DAA3CE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0F3-79C4-4DEF-94AB-4C4D0CDD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6EE-7FFE-4C51-B2FB-00A2BC30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B29-9DEA-4B89-B7ED-C8EA5988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67B-83D1-40DB-8612-13EE2431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7C7-CB6D-46F7-BE95-8F8C5959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8925-80B5-4B1C-8FDB-BC4DAB15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7031-0282-4882-88D1-C5ECCA7117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BDC4-18E3-4E65-889A-19A3EF7275A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s://s3-eu-west-1.amazonaws.com/uploads.drugiegoroda.ru/44/files/2010/11/12c060d5a41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380600"/>
            <a:ext cx="665172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– вред или польз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076720" y="6021360"/>
            <a:ext cx="38880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ыгина М.Д., 2 «В» клас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рис солью"/>
          <p:cNvPicPr/>
          <p:nvPr/>
        </p:nvPicPr>
        <p:blipFill>
          <a:blip r:embed="rId1"/>
          <a:stretch/>
        </p:blipFill>
        <p:spPr>
          <a:xfrm>
            <a:off x="2397240" y="2111400"/>
            <a:ext cx="4297320" cy="3224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1150920" y="208080"/>
            <a:ext cx="75042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4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приготовим насыщенный солевой раствор. Возьмем лист цветной бумаги (я взяла черный), кисть и попробуем что-нибудь нарисовать этим раствором. Оставляем рисунок на ночь в теплом месте. Утром наш рисунок проявитс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1163520" y="5481720"/>
            <a:ext cx="74916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Вода испарилась, а соль осталась, образовав мельчайшие кристалли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через 2 нед"/>
          <p:cNvPicPr/>
          <p:nvPr/>
        </p:nvPicPr>
        <p:blipFill>
          <a:blip r:embed="rId1"/>
          <a:stretch/>
        </p:blipFill>
        <p:spPr>
          <a:xfrm>
            <a:off x="4014720" y="2065320"/>
            <a:ext cx="4498920" cy="1320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через нед 1"/>
          <p:cNvPicPr/>
          <p:nvPr/>
        </p:nvPicPr>
        <p:blipFill>
          <a:blip r:embed="rId2"/>
          <a:stretch/>
        </p:blipFill>
        <p:spPr>
          <a:xfrm>
            <a:off x="839880" y="2549520"/>
            <a:ext cx="2954160" cy="33084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1150920" y="208080"/>
            <a:ext cx="75042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5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приготовим насыщенный солевой раствор. На карандаш привяжем толстую нить, опустим нить в банку и оставим ее в теплом месте на 3 недел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Формирование кристаллов соли показано на фот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11" descr="через 3 нед 1"/>
          <p:cNvPicPr/>
          <p:nvPr/>
        </p:nvPicPr>
        <p:blipFill>
          <a:blip r:embed="rId3"/>
          <a:stretch/>
        </p:blipFill>
        <p:spPr>
          <a:xfrm>
            <a:off x="4029120" y="3449520"/>
            <a:ext cx="4597200" cy="30639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422440" y="687240"/>
            <a:ext cx="4753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4640" y="2635200"/>
            <a:ext cx="85122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Запасы соли неисчерпаемы. Соль добывают разными способами, в пищу употребляем, в основном, каменную и самосадочную сол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используется в промышленности, медицине, в быту. Без соли человеку нельзя, но и пересолить страшно. Чем станет для нас соль – «белым золотом» или «белой смертью» - решать каждому из нас. Но лучше рационально использовать этот удивительный минера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ь рабо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76360" y="2421000"/>
            <a:ext cx="7491600" cy="29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«знакомство» с солью (история, получение соли, применение соли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зучение свойств соли (проведение опытов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ыращивание кристаллов поваренной со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00120" y="1155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то такое сол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6360" y="1267920"/>
            <a:ext cx="7491600" cy="20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прошлом соль эт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алю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бъект обряд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ризнак достатка и благополуч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403360" y="3344760"/>
            <a:ext cx="565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ейчас соль это недорогой и распространенный продук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476360" y="4365720"/>
            <a:ext cx="74916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называют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галитом в минералог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варенной или пищевой в технике и в быт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хлоридом натрия в хим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59418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для организма человека и животны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7491600" cy="44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ажная роль в рабо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нервной сис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ищеварительной сис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движения мышц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оль спасает организм от обезвожи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Избыточное потребление соли ведет к болезням сердца и сосудов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Норма потребления соли для человека –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5 граммов в сут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411280" y="260280"/>
            <a:ext cx="475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нение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403280" y="1195560"/>
            <a:ext cx="7491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быту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иправа для различных блюд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онсервант пищевых продуктов (рыба, мясо, овощи, грибы и т.д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403280" y="3068640"/>
            <a:ext cx="7491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медицин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филактика недостатка йода  и фтора в организм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физиологический раство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403280" y="4522680"/>
            <a:ext cx="749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промышленности и техник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зготовление пластмасс, алюминия, бумаги, мыла, стекла, аккумулятор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спользование при обработке мехов и кож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еагент для борьбы с гололед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1979640" y="62064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246320" y="1835280"/>
            <a:ext cx="74912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каменная или твердая – добывается шахтным или карьерным способом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самосадочная или озерная - добывается на дне солевых озер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садочная – при испарении воды под воздействием солнца, соль оседает на дне бассейнов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выварочная – получается выпариванием воды из рассолов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9" descr="1374633827_012[1]"/>
          <p:cNvPicPr/>
          <p:nvPr/>
        </p:nvPicPr>
        <p:blipFill>
          <a:blip r:embed="rId1"/>
          <a:stretch/>
        </p:blipFill>
        <p:spPr>
          <a:xfrm>
            <a:off x="971640" y="4076640"/>
            <a:ext cx="3779640" cy="2567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1365119147_img[1]"/>
          <p:cNvPicPr/>
          <p:nvPr/>
        </p:nvPicPr>
        <p:blipFill>
          <a:blip r:embed="rId2"/>
          <a:stretch/>
        </p:blipFill>
        <p:spPr>
          <a:xfrm>
            <a:off x="5292720" y="4005360"/>
            <a:ext cx="3255840" cy="26082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979640" y="62064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войства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187280" y="1952640"/>
            <a:ext cx="74916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– прозрачный кристалл не имеющий запах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0001-001-Soli[1]"/>
          <p:cNvPicPr/>
          <p:nvPr/>
        </p:nvPicPr>
        <p:blipFill>
          <a:blip r:embed="rId1"/>
          <a:stretch/>
        </p:blipFill>
        <p:spPr>
          <a:xfrm>
            <a:off x="2733840" y="2403360"/>
            <a:ext cx="3301920" cy="3024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250920" y="5551560"/>
            <a:ext cx="8713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1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банку с водой, опустим туда ложку соли и перемешаем, кристаллы соли исчезнут – растворятся в вод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растворяется в воде.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163520" y="208080"/>
            <a:ext cx="74916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2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банку с теплой водой и опустим туда сырое яйцо – оно утонет. Затем в банку добавляем соль до тех пор, пока на дне банки не останутся кристаллы соли, которые не будут растворяться (получим насыщенный солевой раствор). В этот раствор опустим яйцо – оно будет плавать на поверхности вод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9" descr="яйцо"/>
          <p:cNvPicPr/>
          <p:nvPr/>
        </p:nvPicPr>
        <p:blipFill>
          <a:blip r:embed="rId1"/>
          <a:stretch/>
        </p:blipFill>
        <p:spPr>
          <a:xfrm>
            <a:off x="297000" y="2216160"/>
            <a:ext cx="3168360" cy="3035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яйцо 1"/>
          <p:cNvPicPr/>
          <p:nvPr/>
        </p:nvPicPr>
        <p:blipFill>
          <a:blip r:embed="rId2"/>
          <a:stretch/>
        </p:blipFill>
        <p:spPr>
          <a:xfrm>
            <a:off x="3571920" y="2201760"/>
            <a:ext cx="2531880" cy="3044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https://s3-eu-west-1.amazonaws.com/uploads.drugiegoroda.ru/44/files/2010/11/12c060d5a4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9440" y="2244600"/>
            <a:ext cx="2760480" cy="2955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6"/>
          <p:cNvSpPr/>
          <p:nvPr/>
        </p:nvSpPr>
        <p:spPr>
          <a:xfrm>
            <a:off x="1163520" y="5361120"/>
            <a:ext cx="749160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увеличивает плотность воды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поэтому в соленой воде тело не тонет. На территории нашей республики есть озеро Тус, где каждый человек может убедиться в этом свойстве насыщенного солевого раствора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спич"/>
          <p:cNvPicPr/>
          <p:nvPr/>
        </p:nvPicPr>
        <p:blipFill>
          <a:blip r:embed="rId1"/>
          <a:stretch/>
        </p:blipFill>
        <p:spPr>
          <a:xfrm>
            <a:off x="498600" y="2076480"/>
            <a:ext cx="3970080" cy="329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спич1"/>
          <p:cNvPicPr/>
          <p:nvPr/>
        </p:nvPicPr>
        <p:blipFill>
          <a:blip r:embed="rId2"/>
          <a:stretch/>
        </p:blipFill>
        <p:spPr>
          <a:xfrm>
            <a:off x="4708440" y="2116080"/>
            <a:ext cx="4040280" cy="3262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/>
          <p:cNvSpPr/>
          <p:nvPr/>
        </p:nvSpPr>
        <p:spPr>
          <a:xfrm>
            <a:off x="1163520" y="208080"/>
            <a:ext cx="74916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3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миску с водой, опустим в нее кусочек льда, положим на него спичку и посыпем вокруг спички немного соли. Через несколько секунд кусочек льда можно будет поднять за спичк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104840" y="5313240"/>
            <a:ext cx="7550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заставила таять лед вокруг спички, потому что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температура замерзания соленой воды ниже, чем пресной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Соленый раствор постепенно стекает в миску, и спичка примерзает к кусочку льд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4:01:22Z</dcterms:created>
  <dc:creator>Koretskiy</dc:creator>
  <dc:description/>
  <dc:language>en-US</dc:language>
  <cp:lastModifiedBy>LEGION2</cp:lastModifiedBy>
  <dcterms:modified xsi:type="dcterms:W3CDTF">2015-04-23T09:21:47Z</dcterms:modified>
  <cp:revision>35</cp:revision>
  <dc:subject/>
  <dc:title>Соль – вред или польза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